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0B89-9604-4662-8F05-7123182D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7C29-9718-4713-A72A-7AA4D2B4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6695-179C-47BC-A946-4C380207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58FF-8757-4AD3-BAA0-5C44CEC8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4220-C56A-49E3-A284-E88EF176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C207-A051-4393-A60B-709A0CE2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E95D-E012-46E6-BECA-F063E820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30D2-3C7D-4ABD-A6CB-967272B4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A558-8534-4EE2-AB5E-0256FD82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8702-2FF5-4AA2-8D96-9FAD0EC8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BC78-5B09-43C4-A2C6-3D1FE7C2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0C5C-134F-4871-BE8E-F4C5220E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E0E1-7697-48D6-9C92-F228998E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9687-286E-476D-AF3B-CFB4FBFB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2668-C029-48C1-A461-59B2445C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3F1A-BEDC-4AA5-BBEE-E4D9D97F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D81D-7E02-43B0-94F2-5EE1FC00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327C-803F-46E7-94FD-74193E55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5276-B79E-4535-A456-5B479D81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5141-8B70-4D87-B74E-ECB63BBA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84AD-2885-44AC-86CE-B3A37865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901E-5D33-4FA9-B4A3-4EDE7ACC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2366-8603-4B4C-93C0-5115C3E0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C7C3-8AF1-436A-BD23-5282C784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B41A-C644-4320-8FE2-576F4B94C6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AD69-1EBA-459A-ACD3-481D3E5589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smarck- Opportunist or Architec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riograp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Deb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ter in life, after Germany had been unified, Bismarck encouraged the belief that his actions to achieve unification had been part of a carefully-orchestrated plan. However, in terms of historiography, it is possible to find evidence to support both of the key approa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* That he had very broad goals and seized opportunities to further these goals as and when they arose, through his own efforts and/or through, for example, the mistakes of oth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* That he did have clearly-defined goals and an approximate programme for un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smarck the Opportuni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7280" y="191628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 statesman is like a man wandering in the forest who knows his general direction but not the exact point at which he will emerge from the wood.”Bismar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ismarck’s task of unifying Germany was made easier by circumstances. If he played his hand with great skill, it was a good one in the first place.”G.L. Mos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portunist contd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is policies can at best be regarded as flexible” Aron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ismarck did not fashion German unity alone. He exploited powerful forces which already existed – economic, liberalism and nationalism.” Williams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is diplomacy was much more subtle, flexible and many-sided than his utterances sometimes suggest.” William Car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e did not control events, but was influenced by them.” McKi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smarck as Architec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ussia must gather and consolidate her strength for the favourable moment.” Bismar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t was he [Bismarck] who created the conditions which rendered possible the creation of Great Germany.” Hit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nly under the stimulation provided by Bismarck….did German nationalism begin to move the masses.” Pflan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 contd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mith who forged the Reich.” Hit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absolutely no doubt that he [Bismarck] set his sights on Austria…..and worked to isolate her from the other European powers.” Cameron, Robertson and Henders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did not doubt that a Franco-German war must take place before the construction of a united Germany could be realised.” Bismar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2:07:15Z</dcterms:created>
  <dc:creator>FDunlop</dc:creator>
  <dc:description/>
  <dc:language>en-US</dc:language>
  <cp:lastModifiedBy>FDunlop</cp:lastModifiedBy>
  <dcterms:modified xsi:type="dcterms:W3CDTF">2010-01-18T14:13:41Z</dcterms:modified>
  <cp:revision>10</cp:revision>
  <dc:subject/>
  <dc:title>Bismarck- Planner or Opportunist?</dc:title>
</cp:coreProperties>
</file>